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EC4-6430-4AC7-81DC-65ADC314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7BD-3D32-42F0-938A-2027C5A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362-AA15-4AC7-A283-0C56DC29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C2-8E10-4629-AB4D-AB3A2BFF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DED7-25DB-4737-8AE9-17DFC1C3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8C3-39C0-4350-B0D7-53468B5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74A1-5CD4-4670-8314-1625D12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E053-6975-47B9-ACED-DC85443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6DF5-418B-448E-A314-C4FF96D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6CC2-48B8-46ED-9409-4EDD196A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11F-8E4C-49DA-9C76-120D8CE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BAD-77F3-4D32-94BE-EF41DC9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A6E-BAF1-43F2-BB3F-B98663D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A08A-ACCD-4DA7-BDFB-DB54EC8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ECA-E819-4749-9E14-3876307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2003-C0C7-44E2-85AA-0EB5C5C1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B80-8476-416D-B964-2F616759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3B0-7B82-4F05-8F8D-E673EF20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8ED-7E69-49F5-B8DB-E5932FBE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C02-06FD-46FA-9FA6-C083D01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8EF-D1C1-46E3-BF86-5296099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352-6C39-4C18-A8DD-12D4850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1A-33BF-4145-B40C-4B217AE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2FD-81A3-4CE4-A9C6-C232FE0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0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880" y="6248160"/>
            <a:ext cx="129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BEDC7-CA4C-4FD3-BF92-097E0605B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1680"/>
            <a:ext cx="1440" cy="13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38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160"/>
            <a:ext cx="15210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5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160"/>
            <a:ext cx="1216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576CC95-32A7-4F30-A627-F9B686531617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eaching religion in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Moment of si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ible Cl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1957320" cy="16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But Not Invented When Bill of Rights Was Writ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s &amp; P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